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4668-924D-4704-86F0-EDE73403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C9C-27BC-4862-BF05-1DB1B220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2ED9-049A-4B6A-8BCD-4D5AAEB8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9B0F-2969-4B0D-B525-0BE3E5E8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F53-EB74-489B-972E-E920B0E8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9E20-4457-4D5C-A72E-F8FCC8A4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2FC6-EE22-4808-9F5A-8DFACC3C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19E-5051-4EE4-8EFF-0DF5A644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7FB8-550E-4F96-8B5E-677FCC4B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01D-7966-4A44-8D8D-117A972D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C2C-CE71-4DBA-94E7-99103733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F52-31AB-44B1-BDA5-B2B41244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147D-6FAF-4B11-9B8E-307B4990B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Endocrine Syste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Bodoni MT"/>
              </a:rPr>
              <a:t>It’s your hormones talking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114800" y="254160"/>
            <a:ext cx="4800600" cy="63752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152280" y="1320840"/>
            <a:ext cx="3733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ancreas produces (in addition to others) two important hormones, insulin and glucag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work together to maintain a steady level of glucose, or sugar, in the bl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the body supplied with fuel to produce and maintain stores of ener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le 6"/>
          <p:cNvSpPr/>
          <p:nvPr/>
        </p:nvSpPr>
        <p:spPr>
          <a:xfrm>
            <a:off x="533520" y="82440"/>
            <a:ext cx="3200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The Panc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114800" y="380880"/>
            <a:ext cx="4800600" cy="63756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152280" y="1295280"/>
            <a:ext cx="3733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secretes melatonin, a hormone that may help regulate the wake-sleep cyc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gonads are the main source of sex hormon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les secrete hormones called androgens, testosteron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ulate body changes associated with sexual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emale secrete the hormones estrogen and progestero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rogen is involved in the development of female sexual fea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th estrogen and progesterone are also involved in pregnancy and the regulation of the menstrual cyc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le 6"/>
          <p:cNvSpPr/>
          <p:nvPr/>
        </p:nvSpPr>
        <p:spPr>
          <a:xfrm>
            <a:off x="533520" y="57240"/>
            <a:ext cx="3200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The Pineal Gland and Gon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752120" y="75960"/>
            <a:ext cx="71629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rmones are the chemical messeng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out at the bloodstream and move over to the organs or tissu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results in homeostasis, or equilibriu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rmones exist as catalysts for chemical transform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rmones operate </a:t>
            </a: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very slowly</a:t>
            </a:r>
            <a:br>
              <a:rPr sz="2400"/>
            </a:b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s a variety of different functions in the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xual development and maturity, growth, metabolism, the brain's mood states and reproductive healt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rmones perform a large array of ta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rmones are extremely powerfu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small amounts of hormones can drastically change cells and even the entire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ither excess or insufficient amounts can cause severe damage to a bod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TextBox 7" descr=""/>
          <p:cNvPicPr/>
          <p:nvPr/>
        </p:nvPicPr>
        <p:blipFill>
          <a:blip r:embed="rId1"/>
          <a:stretch/>
        </p:blipFill>
        <p:spPr>
          <a:xfrm>
            <a:off x="79200" y="304920"/>
            <a:ext cx="22132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ne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62120"/>
          <a:ext cx="8229600" cy="4586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572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 of Recep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es of Horm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nciple Mechanism of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  <a:tr h="238608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l surface recepto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plasma membra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eins and peptides, catecholamines and eicosan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tion o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 messenge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which alter the activity of other molecules - usually enzymes - within the 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cb"/>
                    </a:solidFill>
                  </a:tcPr>
                </a:tc>
              </a:tr>
              <a:tr h="124308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acellular recepto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cytoplasm and/or nucle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roids and thyroid horm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 transcriptional activity of responsive g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n Environmental Factors Create Hormonal Imbalan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s they can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mical pollution of excess man-made Estrogens are very re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dangerous foe… the common tin can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dern process of canning foods in tin cans lined with a thin layer of plast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onically, although today’s canned goods are keeping foods from spoiling, they’re “spoiling” us instea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ned goods are inadvertently supplying us with unwanted estrogen-like horm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ction between the tin and the plastic liner over ti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wanted cumulative chemical addition have dire consequences within our bo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ng a synthetic steroidal hormon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856640" y="152280"/>
            <a:ext cx="112212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780320" y="239760"/>
            <a:ext cx="1198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2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286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58ed5"/>
                </a:solidFill>
                <a:latin typeface="Calibri"/>
              </a:rPr>
              <a:t>How is it that humans and animals maintain consistent blood concentrations of glucose throughout their lives despite wildly varying frequencies of meal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r blood glucose concentration drops below 1 mg per ml, your neurons will begin to misbehave, leading ultimately to coma and dea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79646"/>
                </a:solidFill>
                <a:latin typeface="Calibri"/>
              </a:rPr>
              <a:t>Yet skipping breakfast is rarely life-threate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7543800" y="2492280"/>
            <a:ext cx="148608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100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answer is that a battery of chemical messengers - </a:t>
            </a:r>
            <a:r>
              <a:rPr b="0" i="1" lang="en-US" sz="4000" spc="-1" strike="noStrike">
                <a:solidFill>
                  <a:srgbClr val="c00000"/>
                </a:solidFill>
                <a:latin typeface="Aharoni"/>
                <a:ea typeface="Aharoni"/>
              </a:rPr>
              <a:t>hormones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are secreted into blood in response to rises and falls in blood glucose concentration and stimulate metabolic pathways that pull glucose concentrations back into the normal rang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46483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ellular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5367240"/>
            <a:ext cx="784836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two different ways in which cells communicate with each other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those two ways? (you know at least one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239240" cy="43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95480" y="1447560"/>
            <a:ext cx="6019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nervous syst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xerts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oint-to-poi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trol through nerves, similar to sending messages by conventional telephone. Nervous control is electrical in nature and f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vivo.colostate.edu/hbooks/pathphys/endocrine/basics/anim_nerve.gif"/>
          <p:cNvPicPr/>
          <p:nvPr/>
        </p:nvPicPr>
        <p:blipFill>
          <a:blip r:embed="rId1"/>
          <a:stretch/>
        </p:blipFill>
        <p:spPr>
          <a:xfrm>
            <a:off x="685800" y="685800"/>
            <a:ext cx="15238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914040"/>
            <a:ext cx="62485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endocrine syst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roadcasts its hormonal messages to essentially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ll cel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y secretion into blood and extracellular fluid. Like a radio broadcast, it requires a receiver to get the message - in the case of endocrine messages, cells must bear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cep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the hormone being broadcast in order to respo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http://www.vivo.colostate.edu/hbooks/pathphys/endocrine/basics/anim_endo.gif"/>
          <p:cNvPicPr/>
          <p:nvPr/>
        </p:nvPicPr>
        <p:blipFill>
          <a:blip r:embed="rId1"/>
          <a:stretch/>
        </p:blipFill>
        <p:spPr>
          <a:xfrm>
            <a:off x="7162920" y="838080"/>
            <a:ext cx="1508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038480" y="241200"/>
            <a:ext cx="4800600" cy="6375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Pituitary G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42992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TER GLAN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es hormones that control several other endocrine glan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roduction and secretion of  can be influenced by factors such as emotions and seasonal chang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ch as environmental temperature, light exposure patterns, and feel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038480" y="241200"/>
            <a:ext cx="4800600" cy="6375600"/>
          </a:xfrm>
          <a:prstGeom prst="rect">
            <a:avLst/>
          </a:prstGeom>
          <a:ln w="0">
            <a:noFill/>
          </a:ln>
        </p:spPr>
      </p:pic>
      <p:sp>
        <p:nvSpPr>
          <p:cNvPr id="57" name="Title 6"/>
          <p:cNvSpPr/>
          <p:nvPr/>
        </p:nvSpPr>
        <p:spPr>
          <a:xfrm>
            <a:off x="533520" y="133200"/>
            <a:ext cx="300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The Thyroid and Parathyro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Placeholder 8"/>
          <p:cNvSpPr/>
          <p:nvPr/>
        </p:nvSpPr>
        <p:spPr>
          <a:xfrm>
            <a:off x="380880" y="1405080"/>
            <a:ext cx="300852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rol the rate at which cells burn fuels for energ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in thyroid hormones,  so does the speed of chemical reactions in the bod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 role in bone growth and the development of the brain in childr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 tiny glands that function together called the parathyroid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release parathyroid hormone, which regulates the level of calcium in the bloo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038480" y="241200"/>
            <a:ext cx="4800600" cy="6375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152280" y="1295280"/>
            <a:ext cx="3733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parts, each produces a set of hormones and has a different func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uter part, the adrenal cortex, produces corticosteroi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ulate salt and water balance in the body, metabolism, the immune system, and sexual development and fun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inner part, the adrenal medulla, produces such as epinephri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rena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s blood pressure and heart rate when the body experiences stres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le 6"/>
          <p:cNvSpPr/>
          <p:nvPr/>
        </p:nvSpPr>
        <p:spPr>
          <a:xfrm>
            <a:off x="533520" y="76320"/>
            <a:ext cx="300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The Adrenal G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23:39:45Z</dcterms:created>
  <dc:creator>John AJ O'Connor</dc:creator>
  <dc:description/>
  <dc:language>en-US</dc:language>
  <cp:lastModifiedBy>John AJ O'Connor</cp:lastModifiedBy>
  <dcterms:modified xsi:type="dcterms:W3CDTF">2011-03-23T03:31:31Z</dcterms:modified>
  <cp:revision>26</cp:revision>
  <dc:subject/>
  <dc:title>Endocrine System</dc:title>
</cp:coreProperties>
</file>